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3C9957-2A0C-4CAF-BEBF-98BDE6F257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E30924-1884-4CEC-A87E-ED729169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CE9D02-4EBB-4A44-9114-8C27DE552A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FD3654-2CC8-4B64-829C-697E413164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FDE572-CF53-4D62-828D-DC59B6103F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421EC4-B769-47D0-84A4-09ADB877FF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FDABB5-9A91-48F4-9108-21B7250380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1B3359-9788-4C44-9921-68245D3BB6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16CE50-52AB-4645-944E-746B35B401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F1C925-F879-4565-94BB-D40C142667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20CC8D-D7B2-4922-8978-1D71AA8188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FCCB6C-E677-4804-9DE3-92C3C5F07D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C03A0E-F26D-4577-821D-D635D829E7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D0A215-DDA4-45A0-B96B-0EA7DE4DF2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75921F-D01E-4DAC-88AB-07D21000E2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F2B8D1-B5E7-433A-B23A-B611B4769D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6211B7-0796-4A94-9A41-9509339CB4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381C71-7E87-44EA-885D-58A7070F82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A66139-0259-4059-AC17-0B7FD8C7AF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F2D147-958B-4699-B2DD-A2F49992C1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EA9CD1-EF13-471C-B2EB-0D65C4628B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93D57A-0379-4971-AB36-08F9A84D28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C90FC3-6FC8-4BF3-82B1-821A289BC6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C4C584-2F62-4F04-B61F-9355EBB72A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5A7698-1BC7-4B7F-8558-6EDCED03F1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D9DAE1-CA66-4911-BC84-56013A7288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0812F1-9ECE-455F-AE6D-9696474298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8DD1C2-820A-4F9E-AD8F-23E0897F45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D7AF57-0034-4FD1-A68C-148E67216F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80DBDB-96D8-4FF6-8D29-811E4CF22D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19CA6B-B970-4C37-95B1-4277E16FD2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280ACB-C6C9-4081-BCCC-7976773EE3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EEDFE7-5F52-421A-8AC3-9B00274A0B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2080" y="68904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300050-65D2-4F8A-A13C-CC02433EA4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3064A5-31F2-4DF9-BDD0-3DBAA47FBD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C9C76B-8AE8-4F51-8E3D-525F0B8CF7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10CBA6-D739-4367-BB58-9D90D4579A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1FCA13-2869-44FA-A604-E90B59D6DD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216-1955-4F82-A5BF-0EC1A5B2919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4245-EA90-462D-AF0E-A523FB8EAA1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2E8-7CE5-43FE-B906-6384616873C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8EF-1364-4AEC-A947-C6B5E103E8A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CEF0-6AAD-430C-A7A2-64391BE5450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135-4043-4256-A272-003E33FE02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7543-57AE-48A4-89BA-CE9CCCB646D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4CA-96DC-4B11-9FEE-A776B1FEB36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A1211D4A-8D79-403E-977E-18830396DA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41480" y="1508040"/>
            <a:ext cx="63421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Estimating with PROBE I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duce the size ranges, sort the data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rted LOC per item data: 9.333, 10.5, 12, 13, 25.4, 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 these data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smallest item as very small: VS = 9.33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argest item as very large: VL = 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middle item as medium: M = 12 or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large and small ranges, pick the mid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 and VS and M and VL: 10.9, and 22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se may be useful ranges, they are probably not st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additional data points will likely result in substantial size-range adjus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judging size, our intuition is generally based on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, we think of something as of average size if most such items are about that same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onsider something to be very large if it is larger than almost all items in its categ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tems are distributed this way, it is called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normally distributed data, the ranges should remain reasonably stable with the addition of new data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0120" y="850680"/>
            <a:ext cx="799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0" t="0" r="0" b="22687"/>
          <a:stretch/>
        </p:blipFill>
        <p:spPr>
          <a:xfrm>
            <a:off x="1046160" y="1579680"/>
            <a:ext cx="6973920" cy="40352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3264480" y="5602320"/>
            <a:ext cx="232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large volume of data, you could calculate the mean and standard deviation of tha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size r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would be the mean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would be mean plus on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would be mean minus on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would be mean plus two standard dev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mall would be mean minus two standard dev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ethod would provide suitably intuitive size ranges if the data were normally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stribution of Siz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data are not normally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mal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w larg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egativ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ize data, the mean minus one or two standard deviations often gives negative size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on strategy for dealing with such distributions is to treat it as a log-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934920" y="2068560"/>
          <a:ext cx="735192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2068560"/>
                    <a:ext cx="7351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9028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g-Normal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g-Normal Distribu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normalize size data, do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natural logarithm of th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mean and standard deviation of the lo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average, large, very large, small, and very small values for the lo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inverse log of the ranges to obtain the range size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dure will generally produce useful size r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90280" y="917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27000" y="1671480"/>
            <a:ext cx="743112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thematically precise way to determine the proxy size ranges is described in the text (pages 78-7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mple way to determine these size ranges will work when you have lots of data.  Otherwise, it can cause under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stimating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37"/>
          <p:cNvGraphicFramePr/>
          <p:nvPr/>
        </p:nvGraphicFramePr>
        <p:xfrm>
          <a:off x="1025640" y="4118040"/>
          <a:ext cx="7520040" cy="119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4118040"/>
                    <a:ext cx="75200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Limited Data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after using PSP for many projects, you will have 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stimates with limited data when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a new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new tools or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your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unfamiliar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estimates made with data are more accurate th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esses, use data whenever you c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 carefully since improper use can lead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Limited Data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70640" cy="77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quality of your data, select one of the four PROBE estima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184400" y="2556000"/>
          <a:ext cx="7246800" cy="1863720"/>
        </p:xfrm>
        <a:graphic>
          <a:graphicData uri="http://schemas.openxmlformats.org/drawingml/2006/table">
            <a:tbl>
              <a:tblPr/>
              <a:tblGrid>
                <a:gridCol w="1299960"/>
                <a:gridCol w="5946840"/>
              </a:tblGrid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x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ded and modifie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verag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jud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Text Box 57"/>
          <p:cNvSpPr/>
          <p:nvPr/>
        </p:nvSpPr>
        <p:spPr>
          <a:xfrm>
            <a:off x="1133640" y="4654440"/>
            <a:ext cx="732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regression method A or B,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asonable amount of histo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hat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abl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mete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ing prox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 limi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ccu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61840" y="738000"/>
            <a:ext cx="7778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 A (Regression): Estimated Proxy S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98560" y="1557000"/>
            <a:ext cx="809136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A uses the relationship between estimated proxy size (E) and a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and modified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 0.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on of at least three exercises with PSP1 or hig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6240" y="768240"/>
            <a:ext cx="79408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 B (Regression):  Plan Added and Modified Siz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79120" y="1577520"/>
            <a:ext cx="8056440" cy="4318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B uses the relationship between plan added and modified size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added and modified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.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on of at least three exercises with PSP0.1 or hig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C: Aver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85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C uses a ratio to adjust size or time based on historical aver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ing method is easy to use and requires only one data 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s assume that there is no fixed overh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ing method is described in the PROBE script in table 6.6 on page 9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5880" y="826920"/>
            <a:ext cx="789804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D: Engineering Jud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80560" y="1574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ethod D when you don’t have historical data.  Use judgm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he added and modified size from estimated par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ethod D when you cannot use methods A, B, or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ccura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80560" y="1584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is a skill that must be develop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helps to build planning skill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simple plans are subject to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eseen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desig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plain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strategy is to plan in d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recogniz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stimates based on similar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judgments on the r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624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0288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bine multiple estimates made by a single develo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stimates for the separate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one linear regression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one set of prediction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developers can combine independently-made estimates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eparate linear regression proj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he projected sizes and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he squares of the individual ranges and taking the square root to get the prediction interv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870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Error: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7640" y="16365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estimating in parts, the total error will be less than the sum of the part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 tend to balance o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ssumes no common b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1000-hour job with estimating accuracy of ± 50%, the estimate range is from 500 to 15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estimate is independently made in 25 parts, each with 50% error,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would be 1000 hours, as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range would be from 900 to 1100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Individual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9856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bine independently-mad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stimated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variances (squares) of the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25 estimates for a 1000-hour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stimate averages 4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andard deviation is 50%, or 2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for each estimate is 4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s add up to 10,0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bined standard deviation is the square root of the sum of the variances, or 1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timate range is 900 to 11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07560" y="1663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4440" y="834840"/>
            <a:ext cx="8064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4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diction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548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provides a likely range around the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70% prediction interval gives the range within which the actual size will likely fall 70% of the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is not a forecast, only an expec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pplies only if the estimate behaves like the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culated from the same data used to calculate the regression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98560" y="16920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148 + 27.4 = 175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148 – 27.4 = 120.6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912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ultiple Prox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0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ize/hour data for several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each as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total estimates and prediction intervals as just descri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regression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correlation between development time and each pro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xies do not have separate size/hour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regression is covered in exercise hints for the final PSP exerc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5956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PROBE method can provide accurate estimates, improper use of data can lead to serious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treme point can give a high correlation even when the remaining data are poor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extreme points can lead to erroneous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, even with a high 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with Groupe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2217600" y="1943280"/>
            <a:ext cx="4686480" cy="3257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9"/>
          <p:cNvSpPr/>
          <p:nvPr/>
        </p:nvSpPr>
        <p:spPr>
          <a:xfrm>
            <a:off x="68760" y="395928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rrelation with an Extreme Poi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"/>
          <p:cNvPicPr/>
          <p:nvPr/>
        </p:nvPicPr>
        <p:blipFill>
          <a:blip r:embed="rId1"/>
          <a:stretch/>
        </p:blipFill>
        <p:spPr>
          <a:xfrm>
            <a:off x="2214720" y="1938240"/>
            <a:ext cx="4695840" cy="3267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149760" y="550224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0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on Mislead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026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ly one point moved to an extreme value, the correlation for the same data increased from 0.26 to 0.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th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chang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3 to -17,76 for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2 to 5.08 for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n average productivity of 3.02 and 3.31 hours per page, both of thes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misl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e extreme point, you probably should not use reg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72640" y="1569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provides a structured way to make size and development tim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uses your personal developmen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provides a statistically sound range within which actual program size and development time are likely to f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tatistically sound estimating method like PROBE, you can calculate the likely estimating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ediction Interval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992160" y="1803240"/>
            <a:ext cx="8151840" cy="4815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3997080" y="152712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V="1">
            <a:off x="2871720" y="3286080"/>
            <a:ext cx="4557960" cy="175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ange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3240" y="159516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ge defines the likely error around the projection within which the actual value is likely to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scattered data will have a wider range than closely bunch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6"/>
          <p:cNvGraphicFramePr/>
          <p:nvPr/>
        </p:nvGraphicFramePr>
        <p:xfrm>
          <a:off x="212760" y="3271680"/>
          <a:ext cx="1000908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3271680"/>
                    <a:ext cx="10009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9"/>
          <p:cNvSpPr/>
          <p:nvPr/>
        </p:nvSpPr>
        <p:spPr>
          <a:xfrm>
            <a:off x="1055520" y="4842000"/>
            <a:ext cx="717408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- number of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the standard deviation around the regress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p, df) - the t distribution value for probability p (70%) and df (n-2) degrees of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- the data: k - the estimate, i - a data point, and avg - average of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andard Deviation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measures the variability of the data around the regression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scattered data will have a higher standard deviation  than closely bunch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7"/>
          <p:cNvGraphicFramePr/>
          <p:nvPr/>
        </p:nvGraphicFramePr>
        <p:xfrm>
          <a:off x="274680" y="3490920"/>
          <a:ext cx="1057896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3490920"/>
                    <a:ext cx="10578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0"/>
          <p:cNvSpPr/>
          <p:nvPr/>
        </p:nvSpPr>
        <p:spPr>
          <a:xfrm>
            <a:off x="1130400" y="4749840"/>
            <a:ext cx="70689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874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Prediction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93880" y="1550880"/>
            <a:ext cx="78278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rediction range for size and time for the example in lecture 3 (slides 42 and 4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upper (UPI) and lower (LPI) prediction intervals 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P + Range = 538 + 235 = 773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P - Range (or 0) = 538 - 235 = 303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UPI and LPI prediction intervals  fo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Time + Range = 1186 +431 = 1617 m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Time - Range (or 0) = 1186 - 431 = 755 m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092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80560" y="1630080"/>
            <a:ext cx="755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n estimat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se planned parts to parts that you have alread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size of the previously-built parts to estimat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this, you need size ranges for the types of parts that you typically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oduct type, you also need size ranges to help you to judge the sizes of the new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termine the size ranges, start with the par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that you have the followin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, three items (or methods), 39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B, five items, 127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C, two items, 64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, three items, 28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E, one item, 12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F, two items, 21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 per item is 13, 25.4, 32, 9.333, 12, 10.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is define size ranges that approximate our intuitive feel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4:01Z</dcterms:modified>
  <cp:revision>160</cp:revision>
  <dc:subject/>
  <dc:title>No Slide Title</dc:title>
</cp:coreProperties>
</file>